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CB5-54CF-4AE8-926A-265E484E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3DF-8C67-4770-B21A-BC7766C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D8D-CE83-4185-8115-F3127E79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EC5-031A-4E43-A1DB-8DF8DF5F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1E3-925C-4220-A74A-A6C7148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786-5DA1-402F-A422-9512BD1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1CD-8D10-4B71-9AEB-D3A366F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D3B-5118-4AB3-915F-F2BBA9F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3E9-3A8E-4905-9355-F4EED55D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09B-E669-46F9-835C-6D741893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658-61E7-4FE9-A0F5-7AC55E0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1EA-08A8-4115-9015-AADCBC6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4D0-C665-4E3D-94A2-8359131362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880" y="1752480"/>
            <a:ext cx="61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l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ing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the 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315200" cy="63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4800600"/>
            <a:ext cx="304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31520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315200" cy="1447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5480" y="38862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315200" cy="6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464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213372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48520" y="5562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5638680"/>
            <a:ext cx="32767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respond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410080"/>
            <a:ext cx="3505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172200"/>
            <a:ext cx="3276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696080" cy="270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620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6201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629400" cy="121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4479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267080"/>
            <a:ext cx="37339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289548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4956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380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7619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1976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619760" cy="8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61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61976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05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858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620120" cy="272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25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61976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619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6201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02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6201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33520"/>
            <a:ext cx="6629400" cy="163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b017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Selection bias in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Risk Ratio (RR)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62940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5480" y="2130480"/>
            <a:ext cx="35053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7619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20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7620120" cy="94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620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340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7620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31520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4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2895480"/>
            <a:ext cx="2286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76720" y="297108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29718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15200" cy="185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2514240" y="327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276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3353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7315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0:15Z</dcterms:modified>
  <cp:revision>214</cp:revision>
  <dc:subject/>
  <dc:title>Slide 1</dc:title>
</cp:coreProperties>
</file>